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789-ACAF-439C-94C8-28481D04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AD0-4ADE-4421-ADD6-5AF6C23A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16D-F5ED-402E-8E54-48D56090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A86-95D9-44A4-A264-1133C4AD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890-24F8-4766-A2F2-F716D1A7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1FB-9BEF-46A7-8A83-39EA5C44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209-C334-4BCD-8713-3ED0D57D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446-78BC-45D1-8105-56567E0F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E2A-97E8-4075-99B4-50CDCF02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4D3-C6A6-4E3F-BDC4-D67CBD9B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3B1-E4EF-4D4C-A224-8FA7B4F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039-FF1F-4A3C-B8E9-BE9F088C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DB25-13BF-488B-A135-17A7DDD22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Recurring Patients with Preferred N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601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to store which patients have had which n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ng system for n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patients will be placed in the available room which has a positively rated n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ffective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506680" cy="388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Cams btw Patient and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camera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isolation, ICU and procedures using local anesthesia where family is not allowed in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osks in waiting room and option to have one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30480" cy="309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2:28Z</dcterms:created>
  <dc:creator>Marianna Jewell</dc:creator>
  <dc:description/>
  <dc:language>en-US</dc:language>
  <cp:lastModifiedBy>Joseph Riley</cp:lastModifiedBy>
  <dcterms:modified xsi:type="dcterms:W3CDTF">2007-09-04T01:25:32Z</dcterms:modified>
  <cp:revision>2</cp:revision>
  <dc:subject/>
  <dc:title>Matching Recurring Patients with Preferred Nurses</dc:title>
</cp:coreProperties>
</file>